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A2F-48C8-4E3F-B158-375C3B52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0AF-F60E-474D-A63C-659D8D4F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473-FD3A-46D3-AA12-881EA880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191-ABD8-442F-93FA-35BB4838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C72-A4F1-4B64-AC05-B7BA5252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A2B-502B-47EB-8B9A-7A76C6B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C74-E0E2-4859-A285-9AD301F6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EA7-4214-471C-8CAB-DBD5637E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C23-CA9E-453D-8DDF-47FEC852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A9F-102A-4381-849B-6575ACE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1F3-A7ED-419F-960E-6E5D0FC8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958-6779-4B32-ACCE-C095AB0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0481-5673-42BB-9F42-74D964C2A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zdekor.ru/Spektr/NACH_SKOOL/RAZDAT/N250/images/01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496360" cy="2089080"/>
          </a:xfrm>
          <a:prstGeom prst="rect">
            <a:avLst/>
          </a:prstGeom>
          <a:solidFill>
            <a:srgbClr val="ffffff">
              <a:alpha val="34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активный плака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Звуки и буквы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о-буквенные дом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58332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414972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К «Планета Зн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5373720"/>
            <a:ext cx="302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хотник Л.Ю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начальных классов МОУ СОШ № 9 г.С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28720" y="3429000"/>
            <a:ext cx="1152360" cy="431640"/>
            <a:chOff x="828720" y="3429000"/>
            <a:chExt cx="1152360" cy="431640"/>
          </a:xfrm>
        </p:grpSpPr>
        <p:sp>
          <p:nvSpPr>
            <p:cNvPr id="46" name=""/>
            <p:cNvSpPr/>
            <p:nvPr/>
          </p:nvSpPr>
          <p:spPr>
            <a:xfrm>
              <a:off x="828720" y="342900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05080" y="342900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828720" y="2997360"/>
            <a:ext cx="1152360" cy="431640"/>
            <a:chOff x="828720" y="2997360"/>
            <a:chExt cx="1152360" cy="431640"/>
          </a:xfrm>
        </p:grpSpPr>
        <p:sp>
          <p:nvSpPr>
            <p:cNvPr id="49" name=""/>
            <p:cNvSpPr/>
            <p:nvPr/>
          </p:nvSpPr>
          <p:spPr>
            <a:xfrm>
              <a:off x="828720" y="299736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5080" y="299736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28720" y="2565360"/>
            <a:ext cx="1152360" cy="431640"/>
            <a:chOff x="828720" y="2565360"/>
            <a:chExt cx="1152360" cy="431640"/>
          </a:xfrm>
        </p:grpSpPr>
        <p:sp>
          <p:nvSpPr>
            <p:cNvPr id="52" name=""/>
            <p:cNvSpPr/>
            <p:nvPr/>
          </p:nvSpPr>
          <p:spPr>
            <a:xfrm>
              <a:off x="828720" y="256536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05080" y="256536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28720" y="2133720"/>
            <a:ext cx="1152360" cy="431640"/>
            <a:chOff x="828720" y="2133720"/>
            <a:chExt cx="1152360" cy="431640"/>
          </a:xfrm>
        </p:grpSpPr>
        <p:sp>
          <p:nvSpPr>
            <p:cNvPr id="55" name=""/>
            <p:cNvSpPr/>
            <p:nvPr/>
          </p:nvSpPr>
          <p:spPr>
            <a:xfrm>
              <a:off x="828720" y="213372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05080" y="213372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28720" y="1701720"/>
            <a:ext cx="1152360" cy="431640"/>
            <a:chOff x="828720" y="1701720"/>
            <a:chExt cx="1152360" cy="431640"/>
          </a:xfrm>
        </p:grpSpPr>
        <p:sp>
          <p:nvSpPr>
            <p:cNvPr id="58" name=""/>
            <p:cNvSpPr/>
            <p:nvPr/>
          </p:nvSpPr>
          <p:spPr>
            <a:xfrm>
              <a:off x="828720" y="170172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5080" y="170172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9640" y="1197000"/>
            <a:ext cx="1728720" cy="50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981000"/>
            <a:ext cx="17719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71640" y="2671920"/>
            <a:ext cx="1152360" cy="2125440"/>
            <a:chOff x="2771640" y="2671920"/>
            <a:chExt cx="1152360" cy="2125440"/>
          </a:xfrm>
        </p:grpSpPr>
        <p:grpSp>
          <p:nvGrpSpPr>
            <p:cNvPr id="63" name=""/>
            <p:cNvGrpSpPr/>
            <p:nvPr/>
          </p:nvGrpSpPr>
          <p:grpSpPr>
            <a:xfrm>
              <a:off x="2771640" y="4365720"/>
              <a:ext cx="1152360" cy="431640"/>
              <a:chOff x="2771640" y="4365720"/>
              <a:chExt cx="1152360" cy="43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771640" y="436572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48000" y="436572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771640" y="3968640"/>
              <a:ext cx="1152360" cy="431640"/>
              <a:chOff x="2771640" y="3968640"/>
              <a:chExt cx="1152360" cy="431640"/>
            </a:xfrm>
          </p:grpSpPr>
          <p:sp>
            <p:nvSpPr>
              <p:cNvPr id="67" name=""/>
              <p:cNvSpPr/>
              <p:nvPr/>
            </p:nvSpPr>
            <p:spPr>
              <a:xfrm>
                <a:off x="2771640" y="396864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348000" y="396864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771640" y="3537000"/>
              <a:ext cx="1152360" cy="431640"/>
              <a:chOff x="2771640" y="3537000"/>
              <a:chExt cx="1152360" cy="43164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353700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8000" y="353700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71640" y="3103560"/>
              <a:ext cx="1152360" cy="431640"/>
              <a:chOff x="2771640" y="3103560"/>
              <a:chExt cx="1152360" cy="431640"/>
            </a:xfrm>
          </p:grpSpPr>
          <p:sp>
            <p:nvSpPr>
              <p:cNvPr id="73" name=""/>
              <p:cNvSpPr/>
              <p:nvPr/>
            </p:nvSpPr>
            <p:spPr>
              <a:xfrm>
                <a:off x="2771640" y="310356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348000" y="310356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771640" y="2671920"/>
              <a:ext cx="1152360" cy="431640"/>
              <a:chOff x="2771640" y="2671920"/>
              <a:chExt cx="1152360" cy="431640"/>
            </a:xfrm>
          </p:grpSpPr>
          <p:sp>
            <p:nvSpPr>
              <p:cNvPr id="76" name=""/>
              <p:cNvSpPr/>
              <p:nvPr/>
            </p:nvSpPr>
            <p:spPr>
              <a:xfrm>
                <a:off x="2771640" y="267192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348000" y="267192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484360" y="2205000"/>
            <a:ext cx="1728720" cy="5047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1989000"/>
            <a:ext cx="1728720" cy="50508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80360" y="2563920"/>
            <a:ext cx="1152360" cy="1728360"/>
            <a:chOff x="7380360" y="2563920"/>
            <a:chExt cx="1152360" cy="1728360"/>
          </a:xfrm>
        </p:grpSpPr>
        <p:grpSp>
          <p:nvGrpSpPr>
            <p:cNvPr id="81" name=""/>
            <p:cNvGrpSpPr/>
            <p:nvPr/>
          </p:nvGrpSpPr>
          <p:grpSpPr>
            <a:xfrm>
              <a:off x="7380360" y="3860640"/>
              <a:ext cx="1152360" cy="431640"/>
              <a:chOff x="7380360" y="3860640"/>
              <a:chExt cx="1152360" cy="431640"/>
            </a:xfrm>
          </p:grpSpPr>
          <p:sp>
            <p:nvSpPr>
              <p:cNvPr id="82" name=""/>
              <p:cNvSpPr/>
              <p:nvPr/>
            </p:nvSpPr>
            <p:spPr>
              <a:xfrm>
                <a:off x="7380360" y="386064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956720" y="386064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7380360" y="3429000"/>
              <a:ext cx="1152360" cy="431640"/>
              <a:chOff x="7380360" y="3429000"/>
              <a:chExt cx="1152360" cy="431640"/>
            </a:xfrm>
          </p:grpSpPr>
          <p:sp>
            <p:nvSpPr>
              <p:cNvPr id="85" name=""/>
              <p:cNvSpPr/>
              <p:nvPr/>
            </p:nvSpPr>
            <p:spPr>
              <a:xfrm>
                <a:off x="7380360" y="342900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56720" y="342900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380360" y="2995560"/>
              <a:ext cx="1152360" cy="431640"/>
              <a:chOff x="7380360" y="2995560"/>
              <a:chExt cx="1152360" cy="431640"/>
            </a:xfrm>
          </p:grpSpPr>
          <p:sp>
            <p:nvSpPr>
              <p:cNvPr id="88" name=""/>
              <p:cNvSpPr/>
              <p:nvPr/>
            </p:nvSpPr>
            <p:spPr>
              <a:xfrm>
                <a:off x="7380360" y="299556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56720" y="299556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7380360" y="2563920"/>
              <a:ext cx="1152360" cy="431640"/>
              <a:chOff x="7380360" y="2563920"/>
              <a:chExt cx="1152360" cy="431640"/>
            </a:xfrm>
          </p:grpSpPr>
          <p:sp>
            <p:nvSpPr>
              <p:cNvPr id="91" name=""/>
              <p:cNvSpPr/>
              <p:nvPr/>
            </p:nvSpPr>
            <p:spPr>
              <a:xfrm>
                <a:off x="7380360" y="256392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956720" y="256392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7093080" y="2060640"/>
            <a:ext cx="1728720" cy="5047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03640" y="2492280"/>
            <a:ext cx="1152360" cy="2592360"/>
            <a:chOff x="5003640" y="2492280"/>
            <a:chExt cx="1152360" cy="2592360"/>
          </a:xfrm>
        </p:grpSpPr>
        <p:grpSp>
          <p:nvGrpSpPr>
            <p:cNvPr id="95" name=""/>
            <p:cNvGrpSpPr/>
            <p:nvPr/>
          </p:nvGrpSpPr>
          <p:grpSpPr>
            <a:xfrm>
              <a:off x="5003640" y="4221000"/>
              <a:ext cx="1152360" cy="431640"/>
              <a:chOff x="5003640" y="4221000"/>
              <a:chExt cx="1152360" cy="431640"/>
            </a:xfrm>
          </p:grpSpPr>
          <p:sp>
            <p:nvSpPr>
              <p:cNvPr id="96" name=""/>
              <p:cNvSpPr/>
              <p:nvPr/>
            </p:nvSpPr>
            <p:spPr>
              <a:xfrm>
                <a:off x="5003640" y="422100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80000" y="422100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003640" y="3789360"/>
              <a:ext cx="1152360" cy="431640"/>
              <a:chOff x="5003640" y="3789360"/>
              <a:chExt cx="1152360" cy="431640"/>
            </a:xfrm>
          </p:grpSpPr>
          <p:sp>
            <p:nvSpPr>
              <p:cNvPr id="99" name=""/>
              <p:cNvSpPr/>
              <p:nvPr/>
            </p:nvSpPr>
            <p:spPr>
              <a:xfrm>
                <a:off x="5003640" y="378936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0000" y="378936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003640" y="3357720"/>
              <a:ext cx="1152360" cy="431640"/>
              <a:chOff x="5003640" y="3357720"/>
              <a:chExt cx="1152360" cy="431640"/>
            </a:xfrm>
          </p:grpSpPr>
          <p:sp>
            <p:nvSpPr>
              <p:cNvPr id="102" name=""/>
              <p:cNvSpPr/>
              <p:nvPr/>
            </p:nvSpPr>
            <p:spPr>
              <a:xfrm>
                <a:off x="5003640" y="335772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80000" y="335772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003640" y="2924280"/>
              <a:ext cx="1152360" cy="431640"/>
              <a:chOff x="5003640" y="2924280"/>
              <a:chExt cx="1152360" cy="431640"/>
            </a:xfrm>
          </p:grpSpPr>
          <p:sp>
            <p:nvSpPr>
              <p:cNvPr id="105" name=""/>
              <p:cNvSpPr/>
              <p:nvPr/>
            </p:nvSpPr>
            <p:spPr>
              <a:xfrm>
                <a:off x="5003640" y="292428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80000" y="292428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003640" y="2492280"/>
              <a:ext cx="1152360" cy="431640"/>
              <a:chOff x="5003640" y="2492280"/>
              <a:chExt cx="115236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5003640" y="249228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80000" y="249228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003640" y="4653000"/>
              <a:ext cx="1152360" cy="431640"/>
              <a:chOff x="5003640" y="4653000"/>
              <a:chExt cx="1152360" cy="431640"/>
            </a:xfrm>
          </p:grpSpPr>
          <p:sp>
            <p:nvSpPr>
              <p:cNvPr id="111" name=""/>
              <p:cNvSpPr/>
              <p:nvPr/>
            </p:nvSpPr>
            <p:spPr>
              <a:xfrm>
                <a:off x="5003640" y="465300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80000" y="465300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6730920" y="5661000"/>
            <a:ext cx="1152360" cy="863640"/>
            <a:chOff x="6730920" y="5661000"/>
            <a:chExt cx="1152360" cy="863640"/>
          </a:xfrm>
        </p:grpSpPr>
        <p:grpSp>
          <p:nvGrpSpPr>
            <p:cNvPr id="114" name=""/>
            <p:cNvGrpSpPr/>
            <p:nvPr/>
          </p:nvGrpSpPr>
          <p:grpSpPr>
            <a:xfrm>
              <a:off x="6730920" y="6093000"/>
              <a:ext cx="1152360" cy="431640"/>
              <a:chOff x="6730920" y="6093000"/>
              <a:chExt cx="1152360" cy="431640"/>
            </a:xfrm>
          </p:grpSpPr>
          <p:sp>
            <p:nvSpPr>
              <p:cNvPr id="115" name=""/>
              <p:cNvSpPr/>
              <p:nvPr/>
            </p:nvSpPr>
            <p:spPr>
              <a:xfrm>
                <a:off x="6730920" y="609300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07280" y="609300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730920" y="5661000"/>
              <a:ext cx="1152360" cy="431640"/>
              <a:chOff x="6730920" y="5661000"/>
              <a:chExt cx="1152360" cy="431640"/>
            </a:xfrm>
          </p:grpSpPr>
          <p:sp>
            <p:nvSpPr>
              <p:cNvPr id="118" name=""/>
              <p:cNvSpPr/>
              <p:nvPr/>
            </p:nvSpPr>
            <p:spPr>
              <a:xfrm>
                <a:off x="6730920" y="566100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07280" y="5661000"/>
                <a:ext cx="576000" cy="43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6443640" y="5157720"/>
            <a:ext cx="1728720" cy="5047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40000" y="1700280"/>
            <a:ext cx="23050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657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Соно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со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268280"/>
            <a:ext cx="230472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657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Па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со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38920" y="1628640"/>
            <a:ext cx="230508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657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Глух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со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27640" y="4797360"/>
            <a:ext cx="23050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657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Беззвуч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300640"/>
            <a:ext cx="57600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5300640"/>
            <a:ext cx="57600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530064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4869000"/>
            <a:ext cx="576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86900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486900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5732640"/>
            <a:ext cx="576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5732640"/>
            <a:ext cx="576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5732640"/>
            <a:ext cx="576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5732640"/>
            <a:ext cx="57636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165720"/>
            <a:ext cx="57600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6165720"/>
            <a:ext cx="57600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6165720"/>
            <a:ext cx="57600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6165720"/>
            <a:ext cx="57636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3521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zdekor.ru/Spektr/NACH_SKOOL/RAZDAT/N250/images/01.jp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веер для ф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Лариса</cp:lastModifiedBy>
  <dcterms:modified xsi:type="dcterms:W3CDTF">2010-11-18T17:10:41Z</dcterms:modified>
  <cp:revision>28</cp:revision>
  <dc:subject/>
  <dc:title>Слайд 1</dc:title>
</cp:coreProperties>
</file>